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55.gif" ContentType="image/gif"/>
  <Override PartName="/ppt/media/image46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45.gif" ContentType="image/gif"/>
  <Override PartName="/ppt/media/image43.gif" ContentType="image/gif"/>
  <Override PartName="/ppt/media/image44.gif" ContentType="image/gif"/>
  <Override PartName="/ppt/media/image34.jpeg" ContentType="image/jpeg"/>
  <Override PartName="/ppt/media/image40.gif" ContentType="image/gif"/>
  <Override PartName="/ppt/media/image33.png" ContentType="image/png"/>
  <Override PartName="/ppt/media/image30.gif" ContentType="image/gif"/>
  <Override PartName="/ppt/media/image31.gif" ContentType="image/gif"/>
  <Override PartName="/ppt/media/image13.gif" ContentType="image/gif"/>
  <Override PartName="/ppt/media/image39.gif" ContentType="image/gif"/>
  <Override PartName="/ppt/media/image9.gif" ContentType="image/gif"/>
  <Override PartName="/ppt/media/image86.gif" ContentType="image/gif"/>
  <Override PartName="/ppt/media/image16.jpeg" ContentType="image/jpeg"/>
  <Override PartName="/ppt/media/image38.gif" ContentType="image/gif"/>
  <Override PartName="/ppt/media/image8.gif" ContentType="image/gif"/>
  <Override PartName="/ppt/media/image85.gif" ContentType="image/gif"/>
  <Override PartName="/ppt/media/image37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48.gif" ContentType="image/gif"/>
  <Override PartName="/ppt/media/image11.gif" ContentType="image/gif"/>
  <Override PartName="/ppt/media/image29.gif" ContentType="image/gif"/>
  <Override PartName="/ppt/media/image94.gif" ContentType="image/gif"/>
  <Override PartName="/ppt/media/image47.gif" ContentType="image/gif"/>
  <Override PartName="/ppt/media/image10.gif" ContentType="image/gif"/>
  <Override PartName="/ppt/media/image41.gif" ContentType="image/gif"/>
  <Override PartName="/ppt/media/image12.jpeg" ContentType="image/jpeg"/>
  <Override PartName="/ppt/media/image77.gif" ContentType="image/gif"/>
  <Override PartName="/ppt/media/image20.gif" ContentType="image/gif"/>
  <Override PartName="/ppt/media/image57.gif" ContentType="image/gif"/>
  <Override PartName="/ppt/media/image22.gif" ContentType="image/gif"/>
  <Override PartName="/ppt/media/image63.gif" ContentType="image/gif"/>
  <Override PartName="/ppt/media/image64.gif" ContentType="image/gif"/>
  <Override PartName="/ppt/media/image65.gif" ContentType="image/gif"/>
  <Override PartName="/ppt/media/image66.gif" ContentType="image/gif"/>
  <Override PartName="/ppt/media/image67.gif" ContentType="image/gif"/>
  <Override PartName="/ppt/media/image24.gif" ContentType="image/gif"/>
  <Override PartName="/ppt/media/image61.gif" ContentType="image/gif"/>
  <Override PartName="/ppt/media/image96.gif" ContentType="image/gif"/>
  <Override PartName="/ppt/media/image50.jpeg" ContentType="image/jpeg"/>
  <Override PartName="/ppt/media/image72.gif" ContentType="image/gif"/>
  <Override PartName="/ppt/media/image23.gif" ContentType="image/gif"/>
  <Override PartName="/ppt/media/image60.gif" ContentType="image/gif"/>
  <Override PartName="/ppt/media/image70.gif" ContentType="image/gif"/>
  <Override PartName="/ppt/media/image58.jpeg" ContentType="image/jpeg"/>
  <Override PartName="/ppt/media/image95.gif" ContentType="image/gif"/>
  <Override PartName="/ppt/media/image69.gif" ContentType="image/gif"/>
  <Override PartName="/ppt/media/image32.gif" ContentType="image/gif"/>
  <Override PartName="/ppt/media/image71.gif" ContentType="image/gif"/>
  <Override PartName="/ppt/media/image76.gif" ContentType="image/gif"/>
  <Override PartName="/ppt/media/image68.jpeg" ContentType="image/jpeg"/>
  <Override PartName="/ppt/media/image75.gif" ContentType="image/gif"/>
  <Override PartName="/ppt/media/image93.gif" ContentType="image/gif"/>
  <Override PartName="/ppt/media/image2.gif" ContentType="image/gif"/>
  <Override PartName="/ppt/media/image14.gif" ContentType="image/gif"/>
  <Override PartName="/ppt/media/image89.gif" ContentType="image/gif"/>
  <Override PartName="/ppt/media/image88.gif" ContentType="image/gif"/>
  <Override PartName="/ppt/media/image87.gif" ContentType="image/gif"/>
  <Override PartName="/ppt/media/image79.gif" ContentType="image/gif"/>
  <Override PartName="/ppt/media/image78.gif" ContentType="image/gif"/>
  <Override PartName="/ppt/media/image74.gif" ContentType="image/gif"/>
  <Override PartName="/ppt/media/image73.gif" ContentType="image/gif"/>
  <Override PartName="/ppt/media/image62.gif" ContentType="image/gif"/>
  <Override PartName="/ppt/media/image21.jpeg" ContentType="image/jpeg"/>
  <Override PartName="/ppt/media/image36.gif" ContentType="image/gif"/>
  <Override PartName="/ppt/media/image18.gif" ContentType="image/gif"/>
  <Override PartName="/ppt/media/image6.gif" ContentType="image/gif"/>
  <Override PartName="/ppt/media/image83.gif" ContentType="image/gif"/>
  <Override PartName="/ppt/media/image17.gif" ContentType="image/gif"/>
  <Override PartName="/ppt/media/image82.gif" ContentType="image/gif"/>
  <Override PartName="/ppt/media/image5.gif" ContentType="image/gif"/>
  <Override PartName="/ppt/media/image35.gif" ContentType="image/gif"/>
  <Override PartName="/ppt/media/image28.png" ContentType="image/png"/>
  <Override PartName="/ppt/media/image90.gif" ContentType="image/gif"/>
  <Override PartName="/ppt/media/image25.gif" ContentType="image/gif"/>
  <Override PartName="/ppt/media/image91.gif" ContentType="image/gif"/>
  <Override PartName="/ppt/media/image26.gif" ContentType="image/gif"/>
  <Override PartName="/ppt/media/image42.jpeg" ContentType="image/jpeg"/>
  <Override PartName="/ppt/media/image80.gif" ContentType="image/gif"/>
  <Override PartName="/ppt/media/image15.gif" ContentType="image/gif"/>
  <Override PartName="/ppt/media/image3.gif" ContentType="image/gif"/>
  <Override PartName="/ppt/media/image92.gif" ContentType="image/gif"/>
  <Override PartName="/ppt/media/image27.gif" ContentType="image/gif"/>
  <Override PartName="/ppt/media/image1.jpeg" ContentType="image/jpeg"/>
  <Override PartName="/ppt/media/image54.gif" ContentType="image/gif"/>
  <Override PartName="/ppt/media/image81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8A7-7377-43C5-9C66-2765CD49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E29-7BD5-429F-86E4-04293345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8A9-4967-4953-8263-B8FEDFE5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007-5BCE-4CE3-AB53-4008F856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B93-7138-4EAD-9DB3-8342A4F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726-375F-46F6-A451-437873A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217-5866-4DC4-B171-910DCF37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B4D-6F89-481B-9D57-8C0024E6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A33-12ED-4A3A-B15D-5A5E044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735-E5D6-4EF5-9485-6D0562D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7A8-73DF-4E86-A3E3-5AA0BE0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816-2344-4D2A-8645-538875A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1852-AE26-48B5-BEBA-858CC9DD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image" Target="../media/image53.gif"/><Relationship Id="rId6" Type="http://schemas.openxmlformats.org/officeDocument/2006/relationships/image" Target="../media/image54.gif"/><Relationship Id="rId7" Type="http://schemas.openxmlformats.org/officeDocument/2006/relationships/image" Target="../media/image55.gif"/><Relationship Id="rId8" Type="http://schemas.openxmlformats.org/officeDocument/2006/relationships/image" Target="../media/image56.gif"/><Relationship Id="rId9" Type="http://schemas.openxmlformats.org/officeDocument/2006/relationships/image" Target="../media/image57.gif"/><Relationship Id="rId10" Type="http://schemas.openxmlformats.org/officeDocument/2006/relationships/image" Target="../media/image51.gif"/><Relationship Id="rId11" Type="http://schemas.openxmlformats.org/officeDocument/2006/relationships/image" Target="../media/image58.jpeg"/><Relationship Id="rId12" Type="http://schemas.openxmlformats.org/officeDocument/2006/relationships/image" Target="../media/image58.jpeg"/><Relationship Id="rId13" Type="http://schemas.openxmlformats.org/officeDocument/2006/relationships/image" Target="../media/image58.jpeg"/><Relationship Id="rId14" Type="http://schemas.openxmlformats.org/officeDocument/2006/relationships/image" Target="../media/image58.jpeg"/><Relationship Id="rId15" Type="http://schemas.openxmlformats.org/officeDocument/2006/relationships/image" Target="../media/image58.jpeg"/><Relationship Id="rId16" Type="http://schemas.openxmlformats.org/officeDocument/2006/relationships/image" Target="../media/image58.jpeg"/><Relationship Id="rId17" Type="http://schemas.openxmlformats.org/officeDocument/2006/relationships/image" Target="../media/image58.jpeg"/><Relationship Id="rId18" Type="http://schemas.openxmlformats.org/officeDocument/2006/relationships/image" Target="../media/image58.jpeg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" Target=""/><Relationship Id="rId6" Type="http://schemas.openxmlformats.org/officeDocument/2006/relationships/image" Target="../media/image61.gif"/><Relationship Id="rId7" Type="http://schemas.openxmlformats.org/officeDocument/2006/relationships/image" Target="../media/image62.gif"/><Relationship Id="rId8" Type="http://schemas.openxmlformats.org/officeDocument/2006/relationships/image" Target="../media/image63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image" Target="../media/image66.gif"/><Relationship Id="rId5" Type="http://schemas.openxmlformats.org/officeDocument/2006/relationships/image" Target="../media/image6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image" Target="../media/image70.gif"/><Relationship Id="rId7" Type="http://schemas.openxmlformats.org/officeDocument/2006/relationships/image" Target="../media/image69.gif"/><Relationship Id="rId8" Type="http://schemas.openxmlformats.org/officeDocument/2006/relationships/image" Target="../media/image69.gif"/><Relationship Id="rId9" Type="http://schemas.openxmlformats.org/officeDocument/2006/relationships/image" Target="../media/image71.gif"/><Relationship Id="rId10" Type="http://schemas.openxmlformats.org/officeDocument/2006/relationships/image" Target="../media/image70.gif"/><Relationship Id="rId11" Type="http://schemas.openxmlformats.org/officeDocument/2006/relationships/image" Target="../media/image70.gif"/><Relationship Id="rId12" Type="http://schemas.openxmlformats.org/officeDocument/2006/relationships/slide" Target="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slide" Target=""/><Relationship Id="rId5" Type="http://schemas.openxmlformats.org/officeDocument/2006/relationships/image" Target="../media/image74.gif"/><Relationship Id="rId6" Type="http://schemas.openxmlformats.org/officeDocument/2006/relationships/image" Target="../media/image75.gif"/><Relationship Id="rId7" Type="http://schemas.openxmlformats.org/officeDocument/2006/relationships/image" Target="../media/image76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gif"/><Relationship Id="rId3" Type="http://schemas.openxmlformats.org/officeDocument/2006/relationships/image" Target="../media/image78.gif"/><Relationship Id="rId4" Type="http://schemas.openxmlformats.org/officeDocument/2006/relationships/image" Target="../media/image79.gif"/><Relationship Id="rId5" Type="http://schemas.openxmlformats.org/officeDocument/2006/relationships/image" Target="../media/image8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gif"/><Relationship Id="rId3" Type="http://schemas.openxmlformats.org/officeDocument/2006/relationships/image" Target="../media/image82.gif"/><Relationship Id="rId4" Type="http://schemas.openxmlformats.org/officeDocument/2006/relationships/image" Target="../media/image83.gif"/><Relationship Id="rId5" Type="http://schemas.openxmlformats.org/officeDocument/2006/relationships/image" Target="../media/image84.gif"/><Relationship Id="rId6" Type="http://schemas.openxmlformats.org/officeDocument/2006/relationships/image" Target="../media/image85.gif"/><Relationship Id="rId7" Type="http://schemas.openxmlformats.org/officeDocument/2006/relationships/image" Target="../media/image86.gif"/><Relationship Id="rId8" Type="http://schemas.openxmlformats.org/officeDocument/2006/relationships/image" Target="../media/image87.gif"/><Relationship Id="rId9" Type="http://schemas.openxmlformats.org/officeDocument/2006/relationships/image" Target="../media/image83.gif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88.gif"/><Relationship Id="rId13" Type="http://schemas.openxmlformats.org/officeDocument/2006/relationships/image" Target="../media/image89.gi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gif"/><Relationship Id="rId3" Type="http://schemas.openxmlformats.org/officeDocument/2006/relationships/image" Target="../media/image91.gif"/><Relationship Id="rId4" Type="http://schemas.openxmlformats.org/officeDocument/2006/relationships/image" Target="../media/image92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gif"/><Relationship Id="rId3" Type="http://schemas.openxmlformats.org/officeDocument/2006/relationships/image" Target="../media/image94.gif"/><Relationship Id="rId4" Type="http://schemas.openxmlformats.org/officeDocument/2006/relationships/image" Target="../media/image95.gif"/><Relationship Id="rId5" Type="http://schemas.openxmlformats.org/officeDocument/2006/relationships/image" Target="../media/image9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" Target="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19700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NAREA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ERELOR NATURA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2924280"/>
            <a:ext cx="341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LA 0 LA 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5624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241920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7142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08720" y="2852640"/>
            <a:ext cx="1067040" cy="87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64360" y="5445000"/>
            <a:ext cx="1504800" cy="11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796000" y="3860640"/>
            <a:ext cx="80964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5589720"/>
            <a:ext cx="1339560" cy="101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508720" y="5589720"/>
            <a:ext cx="1144440" cy="99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95280" y="4365720"/>
            <a:ext cx="847800" cy="123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492360" y="3573360"/>
            <a:ext cx="952560" cy="10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3705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ÎMI PARE RĂ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4000" y="2133720"/>
            <a:ext cx="40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187280" y="2565360"/>
            <a:ext cx="2314800" cy="20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588000" y="4437000"/>
            <a:ext cx="1400400" cy="189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211640" y="3789360"/>
            <a:ext cx="1547640" cy="17146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9" action="ppaction://hlinksldjump"/>
          </p:cNvPr>
          <p:cNvSpPr/>
          <p:nvPr/>
        </p:nvSpPr>
        <p:spPr>
          <a:xfrm>
            <a:off x="7596360" y="26028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7301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5456" y="3798"/>
                </a:lnTo>
                <a:lnTo>
                  <a:pt x="5456" y="17811"/>
                </a:lnTo>
                <a:lnTo>
                  <a:pt x="3794" y="17811"/>
                </a:lnTo>
                <a:close/>
              </a:path>
            </a:pathLst>
          </a:custGeom>
          <a:solidFill>
            <a:srgbClr val="cc66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464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203508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rot="1176600">
            <a:off x="3995280" y="4797360"/>
            <a:ext cx="1368360" cy="90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50920" y="476280"/>
            <a:ext cx="1584360" cy="125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912960" cy="93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780000" y="3429000"/>
            <a:ext cx="101592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580000" y="2060640"/>
            <a:ext cx="857160" cy="90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250920" y="5084640"/>
            <a:ext cx="1271520" cy="15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651640" y="5300640"/>
            <a:ext cx="1584360" cy="72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780000" y="692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00720" y="692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19640" y="692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24360" y="836640"/>
            <a:ext cx="304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5" name="">
            <a:hlinkClick r:id="rId19" action="ppaction://hlinksldjump"/>
          </p:cNvPr>
          <p:cNvSpPr/>
          <p:nvPr/>
        </p:nvSpPr>
        <p:spPr>
          <a:xfrm>
            <a:off x="6300720" y="549360"/>
            <a:ext cx="792360" cy="7905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1649" h="21600">
                <a:moveTo>
                  <a:pt x="0" y="0"/>
                </a:moveTo>
                <a:lnTo>
                  <a:pt x="21649" y="0"/>
                </a:lnTo>
                <a:lnTo>
                  <a:pt x="21649" y="21600"/>
                </a:lnTo>
                <a:lnTo>
                  <a:pt x="0" y="21600"/>
                </a:lnTo>
                <a:close/>
              </a:path>
              <a:path fill="lightenLess" w="21649" h="21600">
                <a:moveTo>
                  <a:pt x="0" y="0"/>
                </a:moveTo>
                <a:lnTo>
                  <a:pt x="21649" y="0"/>
                </a:lnTo>
                <a:lnTo>
                  <a:pt x="20249" y="1400"/>
                </a:lnTo>
                <a:lnTo>
                  <a:pt x="1400" y="1400"/>
                </a:lnTo>
                <a:close/>
              </a:path>
              <a:path fill="darken" w="21649" h="21600">
                <a:moveTo>
                  <a:pt x="21649" y="0"/>
                </a:moveTo>
                <a:lnTo>
                  <a:pt x="21649" y="21600"/>
                </a:lnTo>
                <a:lnTo>
                  <a:pt x="20249" y="20200"/>
                </a:lnTo>
                <a:lnTo>
                  <a:pt x="20249" y="1400"/>
                </a:lnTo>
                <a:close/>
              </a:path>
              <a:path fill="darkenLess" w="21649" h="21600">
                <a:moveTo>
                  <a:pt x="21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9" y="20200"/>
                </a:lnTo>
                <a:close/>
              </a:path>
              <a:path fill="lighten" w="21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0" action="ppaction://hlinksldjump"/>
          </p:cNvPr>
          <p:cNvSpPr/>
          <p:nvPr/>
        </p:nvSpPr>
        <p:spPr>
          <a:xfrm>
            <a:off x="7524720" y="54936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72360" y="692280"/>
            <a:ext cx="57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740720" y="692280"/>
            <a:ext cx="2966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79640" y="981000"/>
            <a:ext cx="273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CELENT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67280" y="2708280"/>
            <a:ext cx="3209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 FOST ATENT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1871640" cy="17654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7380360" y="5445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132000" y="4365720"/>
            <a:ext cx="2303640" cy="195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 rot="1410000">
            <a:off x="6372360" y="378936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1042920" y="2492280"/>
            <a:ext cx="16081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32000" y="1557360"/>
            <a:ext cx="2905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ff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Arial Black"/>
              </a:rPr>
              <a:t>AI GREŞ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ff"/>
                  </a:gs>
                  <a:gs pos="100000">
                    <a:srgbClr val="ff9966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56000" y="981000"/>
            <a:ext cx="410364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66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551664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9684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  <a:path fill="darken" w="26365" h="21600">
                <a:moveTo>
                  <a:pt x="6176" y="3794"/>
                </a:moveTo>
                <a:lnTo>
                  <a:pt x="7839" y="3794"/>
                </a:lnTo>
                <a:lnTo>
                  <a:pt x="7839" y="17806"/>
                </a:lnTo>
                <a:lnTo>
                  <a:pt x="6176" y="1780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704880" cy="1238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1725840" cy="2594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156360" y="2349360"/>
            <a:ext cx="1655640" cy="1406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95640" y="2852640"/>
            <a:ext cx="1476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90648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71640" y="472428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003640" y="3068640"/>
            <a:ext cx="1089360" cy="136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1042920" y="4869000"/>
            <a:ext cx="1584360" cy="146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2411280" y="3357720"/>
            <a:ext cx="1368720" cy="1266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227640" y="3789360"/>
            <a:ext cx="114480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5435640" y="4653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268360" y="549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43280" y="549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19640" y="549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92280"/>
            <a:ext cx="4316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6000"/>
                  </a:srgbClr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6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7667640" y="55897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gradFill rotWithShape="0">
            <a:gsLst>
              <a:gs pos="0">
                <a:srgbClr val="f1ade7"/>
              </a:gs>
              <a:gs pos="100000">
                <a:srgbClr val="6f4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/>
          </p:cNvPr>
          <p:cNvSpPr/>
          <p:nvPr/>
        </p:nvSpPr>
        <p:spPr>
          <a:xfrm>
            <a:off x="46432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</a:pathLst>
          </a:custGeom>
          <a:solidFill>
            <a:srgbClr val="cc99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/>
          </p:cNvPr>
          <p:cNvSpPr/>
          <p:nvPr/>
        </p:nvSpPr>
        <p:spPr>
          <a:xfrm>
            <a:off x="579600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12000" y="549360"/>
            <a:ext cx="296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59280" y="54936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 rot="20716800">
            <a:off x="3132000" y="1341000"/>
            <a:ext cx="37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ARTE BINE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800360" cy="149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265400" cy="2160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7812000" y="537372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solidFill>
            <a:srgbClr val="cc99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258920" y="3933720"/>
            <a:ext cx="2449440" cy="2051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427640" y="2708280"/>
            <a:ext cx="1062000" cy="1747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5867280" y="4149720"/>
            <a:ext cx="1785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692360" y="981000"/>
            <a:ext cx="597672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51000"/>
                  </a:srgbClr>
                </a:solidFill>
                <a:latin typeface="Arial Black"/>
              </a:rPr>
              <a:t>NU AI CALCULAT CORECT 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5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 rot="591600">
            <a:off x="3059280" y="4221000"/>
            <a:ext cx="2238120" cy="73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116352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1612800" cy="165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1012680" cy="1655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380360" y="551664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8347" y="10800"/>
                </a:moveTo>
                <a:lnTo>
                  <a:pt x="18853" y="3794"/>
                </a:lnTo>
                <a:lnTo>
                  <a:pt x="18853" y="17806"/>
                </a:lnTo>
                <a:close/>
              </a:path>
              <a:path fill="darken" w="23692" h="21600">
                <a:moveTo>
                  <a:pt x="4840" y="3794"/>
                </a:moveTo>
                <a:lnTo>
                  <a:pt x="6502" y="3794"/>
                </a:lnTo>
                <a:lnTo>
                  <a:pt x="6502" y="17806"/>
                </a:lnTo>
                <a:lnTo>
                  <a:pt x="4840" y="17806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1538280" cy="1987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195640" y="2276640"/>
            <a:ext cx="1574640" cy="2065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26920" y="3573360"/>
            <a:ext cx="1390680" cy="2516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516720" y="3933720"/>
            <a:ext cx="133488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443640" y="1197000"/>
            <a:ext cx="188928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2771640" y="765000"/>
            <a:ext cx="142416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419640" y="3573360"/>
            <a:ext cx="1836720" cy="280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0" y="620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8360" y="620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24360" y="620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300720" y="765000"/>
            <a:ext cx="304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5003640" y="1700280"/>
            <a:ext cx="1032120" cy="186840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0"/>
          </p:cNvPr>
          <p:cNvSpPr/>
          <p:nvPr/>
        </p:nvSpPr>
        <p:spPr>
          <a:xfrm>
            <a:off x="6877080" y="54936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1"/>
          </p:cNvPr>
          <p:cNvSpPr/>
          <p:nvPr/>
        </p:nvSpPr>
        <p:spPr>
          <a:xfrm>
            <a:off x="7885080" y="549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93080" y="62064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01080" y="620640"/>
            <a:ext cx="29664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971640" y="189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 rot="20988600">
            <a:off x="2700360" y="1483920"/>
            <a:ext cx="525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1ade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 CALCULAT CORECT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1ade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56000" y="2637000"/>
            <a:ext cx="396720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CITĂRI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407664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104004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77080" y="2349360"/>
            <a:ext cx="1419120" cy="1676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12000" y="5734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51640" y="5300640"/>
            <a:ext cx="865440" cy="7923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91" h="21600">
                <a:moveTo>
                  <a:pt x="0" y="0"/>
                </a:moveTo>
                <a:lnTo>
                  <a:pt x="23591" y="0"/>
                </a:lnTo>
                <a:lnTo>
                  <a:pt x="23591" y="21600"/>
                </a:lnTo>
                <a:lnTo>
                  <a:pt x="0" y="21600"/>
                </a:lnTo>
                <a:close/>
              </a:path>
              <a:path fill="lightenLess" w="23591" h="21600">
                <a:moveTo>
                  <a:pt x="0" y="0"/>
                </a:moveTo>
                <a:lnTo>
                  <a:pt x="23591" y="0"/>
                </a:lnTo>
                <a:lnTo>
                  <a:pt x="22191" y="1400"/>
                </a:lnTo>
                <a:lnTo>
                  <a:pt x="1400" y="1400"/>
                </a:lnTo>
                <a:close/>
              </a:path>
              <a:path fill="darken" w="23591" h="21600">
                <a:moveTo>
                  <a:pt x="23591" y="0"/>
                </a:moveTo>
                <a:lnTo>
                  <a:pt x="23591" y="21600"/>
                </a:lnTo>
                <a:lnTo>
                  <a:pt x="22191" y="20200"/>
                </a:lnTo>
                <a:lnTo>
                  <a:pt x="22191" y="1400"/>
                </a:lnTo>
                <a:close/>
              </a:path>
              <a:path fill="darkenLess" w="23591" h="21600">
                <a:moveTo>
                  <a:pt x="2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1" y="20200"/>
                </a:lnTo>
                <a:close/>
              </a:path>
              <a:path fill="lighten" w="2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1" h="21600">
                <a:moveTo>
                  <a:pt x="8297" y="10800"/>
                </a:moveTo>
                <a:lnTo>
                  <a:pt x="18802" y="3794"/>
                </a:lnTo>
                <a:lnTo>
                  <a:pt x="18802" y="17806"/>
                </a:lnTo>
                <a:close/>
              </a:path>
              <a:path fill="darken" w="23591" h="21600">
                <a:moveTo>
                  <a:pt x="4789" y="3794"/>
                </a:moveTo>
                <a:lnTo>
                  <a:pt x="6452" y="3794"/>
                </a:lnTo>
                <a:lnTo>
                  <a:pt x="6452" y="17806"/>
                </a:lnTo>
                <a:lnTo>
                  <a:pt x="47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2637000"/>
            <a:ext cx="4400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MAI ÎNCEARCĂ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804960" cy="151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308720" y="2133720"/>
            <a:ext cx="1074960" cy="1726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995640" y="4076640"/>
            <a:ext cx="1728720" cy="15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1042920" y="2205000"/>
            <a:ext cx="952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7848720" cy="48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91636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0836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+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764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76720" y="836640"/>
            <a:ext cx="3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=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2808360" cy="89856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5580000" y="260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5580000" y="907920"/>
            <a:ext cx="576360" cy="5050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24360" y="333360"/>
            <a:ext cx="22392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96000" y="981000"/>
            <a:ext cx="22392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2089080" cy="86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364000" y="4941720"/>
            <a:ext cx="194328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003640" y="2565360"/>
            <a:ext cx="1435320" cy="5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76360" y="981000"/>
            <a:ext cx="38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2924280"/>
            <a:ext cx="3457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I REUŞI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236000" y="5445000"/>
            <a:ext cx="1152360" cy="935280"/>
          </a:xfrm>
          <a:custGeom>
            <a:avLst/>
            <a:gdLst>
              <a:gd name="textAreaLeft" fmla="*/ 60480 w 1152360"/>
              <a:gd name="textAreaRight" fmla="*/ 1091880 w 1152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6611" h="21600">
                <a:moveTo>
                  <a:pt x="0" y="0"/>
                </a:moveTo>
                <a:lnTo>
                  <a:pt x="26611" y="0"/>
                </a:lnTo>
                <a:lnTo>
                  <a:pt x="26611" y="21600"/>
                </a:lnTo>
                <a:lnTo>
                  <a:pt x="0" y="21600"/>
                </a:lnTo>
                <a:close/>
              </a:path>
              <a:path fill="lightenLess" w="26611" h="21600">
                <a:moveTo>
                  <a:pt x="0" y="0"/>
                </a:moveTo>
                <a:lnTo>
                  <a:pt x="26611" y="0"/>
                </a:lnTo>
                <a:lnTo>
                  <a:pt x="25211" y="1400"/>
                </a:lnTo>
                <a:lnTo>
                  <a:pt x="1400" y="1400"/>
                </a:lnTo>
                <a:close/>
              </a:path>
              <a:path fill="darken" w="26611" h="21600">
                <a:moveTo>
                  <a:pt x="26611" y="0"/>
                </a:moveTo>
                <a:lnTo>
                  <a:pt x="26611" y="21600"/>
                </a:lnTo>
                <a:lnTo>
                  <a:pt x="25211" y="20200"/>
                </a:lnTo>
                <a:lnTo>
                  <a:pt x="25211" y="1400"/>
                </a:lnTo>
                <a:close/>
              </a:path>
              <a:path fill="darkenLess" w="26611" h="21600">
                <a:moveTo>
                  <a:pt x="2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11" y="20200"/>
                </a:lnTo>
                <a:close/>
              </a:path>
              <a:path fill="lighten" w="2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11" h="21600">
                <a:moveTo>
                  <a:pt x="6299" y="3794"/>
                </a:moveTo>
                <a:lnTo>
                  <a:pt x="20312" y="10800"/>
                </a:lnTo>
                <a:lnTo>
                  <a:pt x="6299" y="17806"/>
                </a:lnTo>
                <a:close/>
              </a:path>
            </a:pathLst>
          </a:custGeom>
          <a:blipFill rotWithShape="0">
            <a:blip r:embed="rId3">
              <a:alphaModFix amt="9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150012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5606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5280" y="1125360"/>
            <a:ext cx="2904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ff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Arial Black"/>
              </a:rPr>
              <a:t>AI GREŞ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ff"/>
                  </a:gs>
                  <a:gs pos="100000">
                    <a:srgbClr val="ff9966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2565360"/>
            <a:ext cx="40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66"/>
                    </a:gs>
                  </a:gsLst>
                  <a:lin ang="8100000"/>
                </a:grad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1555560" cy="186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35640" y="3429000"/>
            <a:ext cx="1797120" cy="215568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380360" y="544500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8512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  <a:path fill="darken" w="24023" h="21600">
                <a:moveTo>
                  <a:pt x="5005" y="3794"/>
                </a:moveTo>
                <a:lnTo>
                  <a:pt x="6667" y="3794"/>
                </a:lnTo>
                <a:lnTo>
                  <a:pt x="6667" y="17806"/>
                </a:lnTo>
                <a:lnTo>
                  <a:pt x="500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624720" cy="4989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4251600">
            <a:off x="1504440" y="1600200"/>
            <a:ext cx="1297080" cy="121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1667160" cy="132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843280" y="4869000"/>
            <a:ext cx="107784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084720" y="1268280"/>
            <a:ext cx="197820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rot="2616000">
            <a:off x="3492000" y="2923920"/>
            <a:ext cx="1197000" cy="119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4356000" y="4653000"/>
            <a:ext cx="1268640" cy="126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56400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4036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8800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64000" y="549360"/>
            <a:ext cx="304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8" name="">
            <a:hlinkClick r:id="rId9" action="ppaction://hlinksldjump"/>
          </p:cNvPr>
          <p:cNvSpPr/>
          <p:nvPr/>
        </p:nvSpPr>
        <p:spPr>
          <a:xfrm>
            <a:off x="5867280" y="11592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0" action="ppaction://hlinksldjump"/>
          </p:cNvPr>
          <p:cNvSpPr/>
          <p:nvPr/>
        </p:nvSpPr>
        <p:spPr>
          <a:xfrm>
            <a:off x="5867280" y="6922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12000" y="765000"/>
            <a:ext cx="296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12000" y="189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1280" y="692280"/>
            <a:ext cx="38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42920" y="2133720"/>
            <a:ext cx="3746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I NUMĂRAT BINE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380360" y="566100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700360" y="3716280"/>
            <a:ext cx="1616040" cy="194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651640" y="2205000"/>
            <a:ext cx="16812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32000" y="692280"/>
            <a:ext cx="28544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IN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 rot="744000">
            <a:off x="1834920" y="16999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7356000"/>
                </a:gradFill>
                <a:latin typeface="Arial Black"/>
              </a:rPr>
              <a:t>REIA CALCULELE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7356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1681200" cy="201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32360" y="3933720"/>
            <a:ext cx="1736640" cy="20844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7596360" y="537372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0" r="0" b="6470"/>
          <a:stretch/>
        </p:blipFill>
        <p:spPr>
          <a:xfrm>
            <a:off x="1042920" y="1341360"/>
            <a:ext cx="669780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86688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12000" y="5357880"/>
            <a:ext cx="1255680" cy="105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90800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88000" y="3068640"/>
            <a:ext cx="1441440" cy="99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227640" y="4365720"/>
            <a:ext cx="1181160" cy="8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 rot="1053000">
            <a:off x="2410920" y="328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 rot="20720400">
            <a:off x="1834920" y="4076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2268360" y="1125360"/>
            <a:ext cx="84312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659640" y="1341360"/>
            <a:ext cx="546120" cy="51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03640" y="333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404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76720" y="549360"/>
            <a:ext cx="304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5580000" y="40464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6516720" y="40464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732720" y="47628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96000" y="47628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42920" y="98100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ĂRI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2924280"/>
            <a:ext cx="3457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TE  COREC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380360" y="566100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4292640"/>
            <a:ext cx="192096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372360" y="2276640"/>
            <a:ext cx="1366560" cy="113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6920" y="2708280"/>
            <a:ext cx="12668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55:52Z</dcterms:created>
  <dc:creator>Aurors</dc:creator>
  <dc:description/>
  <dc:language>en-US</dc:language>
  <cp:lastModifiedBy>IULIA</cp:lastModifiedBy>
  <dcterms:modified xsi:type="dcterms:W3CDTF">2009-11-17T13:12:38Z</dcterms:modified>
  <cp:revision>11</cp:revision>
  <dc:subject/>
  <dc:title>Slide 1</dc:title>
</cp:coreProperties>
</file>